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FA2-F2C3-4773-83F2-306244BF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37A-4356-495A-B917-555F150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531C8-7B91-43C0-8B5F-40998B8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F4D4D-AE02-49DE-A11C-E994629B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407D4-FB56-4064-89BF-96A285B4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C3EBC-2F77-4372-84F0-26DC957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87FF2-8016-4012-8D21-7B24A3C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98B9B-C18A-4C2A-A9F1-01ED6D8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F94A5-5250-469C-9140-BA00BB67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7C394-40FA-44B5-94B9-088E7E65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D0532-D166-4E7E-86C9-20CE6993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D4203-B0C1-4F2E-ACEA-AF17E0B6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128-49D6-4101-BF8D-80E9310D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729CB-768B-4DC9-A9DE-9DF346A0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EF333-83B1-4CC7-A43A-457AA9C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1CD36-1954-4DF6-85B2-7B2A20C8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36B9B-FC1F-4855-82F0-CEB12E8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614AC-1ED2-4B82-8E0B-A6A9D7E3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D99F9-EF0D-4051-B681-6630451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3D8DA-5935-4654-B6FB-B1A5054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A102E-6C10-4256-B849-7EF96991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7D8C-E100-40D9-9112-A126556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44A54-651B-4CFB-9B01-83692F7E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487-5A37-4DB1-A56F-08A8797D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7D7C0-AF07-4F42-9DBB-A7D404A9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09F8F-95FA-4102-A706-1DBB59AA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B944E-FB7C-4EC8-B346-33F15C06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71BA5-10EC-4F35-9A2C-6E234BB3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97C48-D920-4065-9F3B-535E13E6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256D9-539D-49F7-87FE-0E6CE01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D74A-5744-48EA-B7C3-D5DDBEA4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71CBF-2951-4D1D-AAD4-1B2BEA85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16A31-6A5E-4BDF-83FB-78EEB021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36D93-95E3-4C67-908D-D2C627B3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C3F9-88A9-434B-BF8B-2FB5AD1A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5DFA-D101-42FA-950B-15C841AE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45207-3521-4DC8-A14E-D23F0C75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F6F44-A93F-48AA-8717-C15D8C92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DAE40-BA4E-4070-BC80-76C333CF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E780B-78C0-45EC-AE72-0056CF5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80E3F-DA12-4F88-91BC-65C163BB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DABD1-BE2D-46CB-8138-068AA7CA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457CE-B85F-447A-9342-A385334D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EC28A-56F7-4E4E-9F75-B79AF38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3EF85-958B-415F-8E17-DE4C1CEF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1921-726B-4818-88F0-DEB73596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42C36-2492-4C7D-9488-EFBBC78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3106C-2A57-40C9-8146-ED74FAE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1AD67-6EFC-4112-AD25-A17ED29F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CA29B-56F2-4E0B-A1D7-74DFF50D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BB17-D44F-4CEB-937F-6391F914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193E-2F19-4200-87AB-B837188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8C55-C761-4374-BD97-A4040B03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CE20-0692-4FA7-A565-19459271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F078-F15B-496D-A768-1A7869FF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D219-3400-4110-847E-C5446BF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B16-24CF-4102-B873-A21D91C4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D19F-8567-44CD-A5D4-EF8C2B5C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C1B9-1A52-4D3E-BF65-3B3F419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1D5A-4E51-40E2-9FED-252C6FB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DA4F-2459-4524-B0BC-83D80126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9A62-C8EC-45EF-922F-74D168D9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EA10-A18D-402C-B42C-C0D08D6F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6C2B-2262-4B5A-804E-7ECB355D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0CC5-C2F4-4C95-B004-F84C1A5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EEFC-FF6D-4EA4-9D07-9B47A494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5AA4-0C17-456E-9E62-B64F51FA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BC9-7B5B-49E1-B269-0F5ED81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1C37-6B98-4EC0-B406-CE752206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C5A2-700A-4DE3-A94A-B1FE1BF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1AF8-2450-40FE-B800-89E3276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A0C9-4E4B-42CC-A58A-09ECD69F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FFF1-D00C-41AB-AE42-1B5D89BF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C1AF-7A8B-49B0-879E-07381753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CE80-60E9-487B-A804-6327E962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290F-0D54-4241-82A3-31B59406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17E0-D1CA-4EAE-838F-728D9FA2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82E1-C688-425B-B685-DBCED4D1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898-1C6C-41FC-804D-CDBCD6E2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2DEE-79FC-48D2-A027-15C6A3EC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0BCA-4452-4249-8132-CE704640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2002-F456-49A1-A859-0C25CCD8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F8AC-8A9D-4526-9609-C72613E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D1329-9E4E-4406-9442-E86C5E8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1E84-DCFC-486A-A30E-E9AD753F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E35E-11BF-4FE3-B2E1-92950BD0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9FCB-BB65-46BD-B388-0D9DC059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4EA7E-C94D-4FE8-8DF3-E2EF3437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61FB-38A1-4A56-ABD9-C3DC6AC3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928-6245-4DCA-B25A-26B283A3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AB36-47DE-478F-A0D2-54B8D73E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EB4D4-EA53-40EA-A836-4FCB6BB9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0E874-7E70-4034-B920-ABA810E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65F4-83DC-437C-ABB2-EEB15366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2212-57C8-4F9F-88B1-8B035758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8515-B68D-4ACB-9630-097224C0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635A-A9E8-4F53-983E-1ED5322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1A3B-5CA4-4602-A905-00B1D6B8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8BB9-5FCE-4ABC-B935-F4B2E377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1647-13A0-4F0E-ADB5-805E3EFA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B2B-B55F-4012-B5D2-16F0F15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E679-3EB1-4F4A-9082-318FC5D5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FBCA-D5EF-4F69-97C8-D2FFB923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EDDF3-6608-482B-B889-C9723C2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11196-462C-4E36-B2C8-7386DBBC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B2218-11DA-4197-9C76-8EC56D3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9A54-923D-49D3-94DC-77A824D4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C118-487D-4273-83F0-DED11D3B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A8A0-5890-44EA-8879-02D50E1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773AC-DD14-4A54-9344-2465B97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3417-0D46-4C3D-BD91-DE06E1A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60C-E82C-4CB8-9AC7-AEDD692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08A3-D57E-424D-A872-A2343AC3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0344-75CE-4437-AC8A-25AA9173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82290-51DE-48F5-96DA-457A3147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3D85-9652-4A3F-98EC-4495501E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DBA7-D82D-4CCC-A30B-3BC7A6DC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E83E-8202-4B5D-81AD-0419B64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EA0EF-3C59-42F4-9A5B-4B52826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3189-9F5A-4DBA-89CD-C686FD30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873CA-4205-4C66-976E-94833D2A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658B2-A990-4CDB-940B-7B3346E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DA9-EA3D-499A-94C9-BE03C73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88160-2F2E-46AC-918A-AB563F75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B658-4F3A-4E50-912A-A9E508C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6E60E-DF3B-4C18-B894-5A4F8F4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5B3E-7343-444E-BC84-8CEA28F4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A9ED-DA86-4C4C-8138-F1C7E302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2D955-718D-4945-9D17-6F4A6069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FF3C7-04B5-4B47-BE98-E639D627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BF69-81E8-418C-8BBD-9A8EABD8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B583-7D9A-48EA-82E1-6120606D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C19FC-0020-40DD-B00C-EEC61F0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E53-A091-45F3-8AD6-C2862A93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AE85D-D2FB-4F2C-A1DA-C8101E84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F4FE0-E06C-41BD-AFA8-00E61D0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49E2F-CA86-4B70-BB1E-B6152C44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8B7EE-5572-460D-B2D6-247DE87E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C98DD-B82C-4C67-9D08-621FABB0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05E91-AD2E-4100-9268-E6BA2A9A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BED10-0B2C-4D9B-A944-23194351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A1B7A-8FDB-4721-9F48-8FDEFEFB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DFE8B-D54F-49EE-9DCE-41602E5A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FDA23-CC1E-44F3-9CBC-BDC962C9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D272-F01E-4EC6-BD57-5B72948268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666-575B-434F-A027-FD5ADEF13F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BB4D-437A-41DE-BE30-6C9CC56055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65AD-BA9F-4883-998B-B9110C2497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F2E-C2AE-4AD8-89FE-868E224C32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A4C2-9E2A-44C1-8913-853CFD849B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2D4D-4C77-4038-8806-1F21033D68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7CA2-EBC1-4013-B6C5-5613802BAD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9D2-AA9A-4968-B1E6-F093E516E1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2D26-D000-40BF-A41A-4884F1CEA9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F92E-1AD8-4335-95C1-66C44A34A4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2615-A71D-4B6F-8DB3-1F32FE3923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1 Už prestaň sa rmút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ráp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restaň sa rmútiť a tráp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cestu ti zastiera t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ierou hľaď stále na Kri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vetlo pre každého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tvojím svetlom on stane sa rá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odrazil satanské zvo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ilu chce k boju nám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ty nad zlom zvíťazíš 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i tebe bude on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tvojím svetlom on stane sa rá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tebou bdie neustále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len s dôverou hľaď k nebesám,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aj iným to radostne hlásaj,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že všetkých chce zachrániť Pá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tvojím svetlom on stane sa rád.</a:t>
            </a:r>
            <a:br>
              <a:rPr sz="47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26:45Z</dcterms:modified>
  <cp:revision>21</cp:revision>
  <dc:subject/>
  <dc:title>Je veľký náš Pán, on slávy je Kráľ Nech do všetkých strán  spev vrúcnych znie chvál.</dc:title>
</cp:coreProperties>
</file>